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ADC-EA69-491F-A198-83F402D2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32A-0CA1-43C6-B054-61C1476A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A71-26B6-437E-88D6-E7D36DCE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B3C-6F36-4F6B-9644-63F909D9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AD481-1FBD-427E-90EB-D1ED45BB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E0435-9263-4543-A628-01E8D8B0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D78AD-679C-405B-8352-E7D07C0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5F9AFA-9D3A-4D8D-88F8-4D00CC49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DD33B-5858-4E53-BCA5-266E010F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B207E-32EE-4E8C-8082-C093C860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0B964-C430-463A-9AE9-BCA190CD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5ED-5614-4AF7-8896-DAE57829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616A4-C678-40F9-B7ED-FF2924A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A145C-DD4E-4460-8D48-281DAEC0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5E2DA-69B8-4415-A256-9D90424E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F0A5A-5BA1-4DAC-985E-9306C60D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ED6F4-9F6B-4E77-99FB-F27D5C2B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4D1C2-FCEA-4130-8408-8D222D5F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9C94-9961-40D8-9E15-CD8FF5F6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92D68-945B-414E-AABA-94D7473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2D2C-1E87-4C33-AD47-5D6DCDFC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F096-3B4D-4304-AD78-884CB6E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C8A-947C-45EF-AD69-BC7FDBA1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3F0CA-46F9-4786-82FF-CBFB8F30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29F0A-9BDC-45A8-8162-A75318A2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6A8D7-8415-49A8-B206-9D5B59E4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D11A-0F27-4A30-B83A-A62A34D0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F9CB-AF2E-4BB2-9463-69BFD13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A8A3-DF55-4325-8662-B610F2B3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F0E5-7DCA-4B4A-9FDC-4D741538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275-5F0E-4E13-ADFA-28BFCBC9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425F-73B3-48D6-8333-AD21EE48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0E7B-0024-4D42-B24D-67CAD01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6A2-63C1-4838-B1B1-8C2C8DB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DA8-0D19-49AF-9C54-7269710D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0E2-3741-4F4A-8330-C608039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952A-3449-4DD7-B6E3-7986ED237C66}" type="datetime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Политически кабинет на Заместник министър-председателя по коалиционна политика и държавна админи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502A-9DD1-4601-B203-E134D4F0A073}" type="slidenum">
              <a:rPr b="0" lang="bg-B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 flipV="1">
            <a:off x="838080" y="3417480"/>
            <a:ext cx="10515600" cy="111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7"/>
          <p:cNvSpPr/>
          <p:nvPr/>
        </p:nvSpPr>
        <p:spPr>
          <a:xfrm flipV="1">
            <a:off x="838080" y="6311520"/>
            <a:ext cx="10515600" cy="111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pravoto.com/site/images/stories/razni/gerb_1.jpg"/>
          <p:cNvPicPr/>
          <p:nvPr/>
        </p:nvPicPr>
        <p:blipFill>
          <a:blip r:embed="rId2"/>
          <a:stretch/>
        </p:blipFill>
        <p:spPr>
          <a:xfrm>
            <a:off x="5162400" y="351000"/>
            <a:ext cx="1859040" cy="1792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1.05.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5490-74F6-4FC2-AEDE-A6BACE07C620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749400" y="6356520"/>
            <a:ext cx="4684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 flipV="1">
            <a:off x="838080" y="1001880"/>
            <a:ext cx="10515600" cy="108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7"/>
          <p:cNvSpPr/>
          <p:nvPr/>
        </p:nvSpPr>
        <p:spPr>
          <a:xfrm flipV="1">
            <a:off x="838080" y="6311520"/>
            <a:ext cx="10515600" cy="1116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CB2B-E09A-4541-ACA3-3D62276492D6}" type="datetime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749400" y="6356520"/>
            <a:ext cx="4684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2534-BC68-4697-8E08-E2393CDD4F73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8080" y="1278000"/>
            <a:ext cx="10515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000000"/>
                </a:solidFill>
                <a:latin typeface="Palatino Linotype"/>
                <a:ea typeface="DejaVu Sans"/>
              </a:rPr>
              <a:t>Трансформация на модела на административно обслужван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28.10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06EC-FEC0-4206-A811-7AC015F647BC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2060"/>
                </a:solidFill>
                <a:latin typeface="Palatino Linotype"/>
              </a:rPr>
              <a:t>Дейност 3 „</a:t>
            </a:r>
            <a:r>
              <a:rPr b="0" lang="ru-RU" sz="2800" spc="-1" strike="noStrike">
                <a:solidFill>
                  <a:srgbClr val="002060"/>
                </a:solidFill>
                <a:latin typeface="Palatino Linotype"/>
              </a:rPr>
              <a:t>Инвентаризация и анализ на режимите, АУ и информационните масиви/регистри в администрацията</a:t>
            </a:r>
            <a:r>
              <a:rPr b="0" lang="bg-BG" sz="2800" spc="-1" strike="noStrike">
                <a:solidFill>
                  <a:srgbClr val="002060"/>
                </a:solidFill>
                <a:latin typeface="Palatino Linotype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5984-177C-44D8-9B71-80221CCCE978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3097080" y="6356520"/>
            <a:ext cx="581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 и министър на вътрешните рабо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762200" y="1314360"/>
            <a:ext cx="9583560" cy="76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сички проекти следва да поддържат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сигурна и удобна електронна идентификация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 на граждани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762200" y="2104920"/>
            <a:ext cx="958356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Електронни процеси, 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а не електронизиране на хартиени процес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843120" y="1278000"/>
            <a:ext cx="807840" cy="77004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843120" y="2104920"/>
            <a:ext cx="807840" cy="77004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765440" y="2932200"/>
            <a:ext cx="9582120" cy="76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Palatino Linotype"/>
              </a:rPr>
              <a:t>Приоритизиране</a:t>
            </a: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 по значимост с цел </a:t>
            </a:r>
            <a:r>
              <a:rPr b="1" lang="bg-BG" sz="1600" spc="-1" strike="noStrike">
                <a:solidFill>
                  <a:srgbClr val="000000"/>
                </a:solidFill>
                <a:latin typeface="Palatino Linotype"/>
              </a:rPr>
              <a:t>ползваемост и удобство</a:t>
            </a: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843120" y="2932200"/>
            <a:ext cx="807840" cy="76968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1754280" y="3759120"/>
            <a:ext cx="958212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Архитектура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ориентирана към услуги 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(SOA), </a:t>
            </a: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отворени стандарти и технологии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843120" y="3759120"/>
            <a:ext cx="807840" cy="77004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9"/>
          <p:cNvSpPr/>
          <p:nvPr/>
        </p:nvSpPr>
        <p:spPr>
          <a:xfrm>
            <a:off x="843120" y="5413320"/>
            <a:ext cx="807840" cy="77004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0"/>
          <p:cNvSpPr/>
          <p:nvPr/>
        </p:nvSpPr>
        <p:spPr>
          <a:xfrm>
            <a:off x="1765440" y="5413320"/>
            <a:ext cx="9582120" cy="7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alatino Linotype"/>
              </a:rPr>
              <a:t>Устойчивост на резултатите </a:t>
            </a: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чрез прилагане на добри практики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1"/>
          <p:cNvSpPr/>
          <p:nvPr/>
        </p:nvSpPr>
        <p:spPr>
          <a:xfrm>
            <a:off x="843120" y="4586400"/>
            <a:ext cx="807840" cy="76968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1765440" y="4586400"/>
            <a:ext cx="9582120" cy="76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Palatino Linotype"/>
              </a:rPr>
              <a:t>Оперативна съвместимост </a:t>
            </a: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без бюрокрация</a:t>
            </a:r>
            <a:r>
              <a:rPr b="0" lang="en-US" sz="1600" spc="-1" strike="noStrike">
                <a:solidFill>
                  <a:srgbClr val="000000"/>
                </a:solidFill>
                <a:latin typeface="Palatino Linotype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2.01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2060"/>
                </a:solidFill>
                <a:latin typeface="Palatino Linotype"/>
              </a:rPr>
              <a:t>Инвентаризация на наличните ресурс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1550-2BBF-4D58-A3B3-B7153E5C97CB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3097080" y="6356520"/>
            <a:ext cx="581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 и министър на вътрешните рабо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2.01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C:\Users\k.konstantinova\Documents\Admin Reform\pics\standardized-process.jpg"/>
          <p:cNvPicPr/>
          <p:nvPr/>
        </p:nvPicPr>
        <p:blipFill>
          <a:blip r:embed="rId1"/>
          <a:stretch/>
        </p:blipFill>
        <p:spPr>
          <a:xfrm>
            <a:off x="3951360" y="2486160"/>
            <a:ext cx="4311720" cy="25588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3940200" y="4778280"/>
            <a:ext cx="4311720" cy="114480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Регистрова реформ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L-Shape 8"/>
          <p:cNvSpPr/>
          <p:nvPr/>
        </p:nvSpPr>
        <p:spPr>
          <a:xfrm rot="5400000">
            <a:off x="1324800" y="1064160"/>
            <a:ext cx="1441440" cy="2395440"/>
          </a:xfrm>
          <a:custGeom>
            <a:avLst/>
            <a:gdLst/>
            <a:ahLst/>
            <a:rect l="l" t="t" r="r" b="b"/>
            <a:pathLst>
              <a:path w="1440400" h="2396794">
                <a:moveTo>
                  <a:pt x="0" y="0"/>
                </a:moveTo>
                <a:lnTo>
                  <a:pt x="232048" y="0"/>
                </a:lnTo>
                <a:lnTo>
                  <a:pt x="232048" y="2164602"/>
                </a:lnTo>
                <a:lnTo>
                  <a:pt x="1440400" y="2164602"/>
                </a:lnTo>
                <a:lnTo>
                  <a:pt x="1440400" y="2396794"/>
                </a:lnTo>
                <a:lnTo>
                  <a:pt x="0" y="2396794"/>
                </a:lnTo>
                <a:lnTo>
                  <a:pt x="0" y="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033560" y="1792440"/>
            <a:ext cx="21636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L-Shape 10" descr=""/>
          <p:cNvPicPr/>
          <p:nvPr/>
        </p:nvPicPr>
        <p:blipFill>
          <a:blip r:embed="rId2"/>
          <a:stretch/>
        </p:blipFill>
        <p:spPr>
          <a:xfrm>
            <a:off x="8918640" y="4443480"/>
            <a:ext cx="2523960" cy="157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1"/>
          <p:cNvSpPr/>
          <p:nvPr/>
        </p:nvSpPr>
        <p:spPr>
          <a:xfrm>
            <a:off x="8796240" y="4413240"/>
            <a:ext cx="2324160" cy="12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Изграден регистър на информационните масиви и направена оценка на разходите и рисков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-Shape 12"/>
          <p:cNvSpPr/>
          <p:nvPr/>
        </p:nvSpPr>
        <p:spPr>
          <a:xfrm flipH="1" flipV="1">
            <a:off x="8956800" y="1541520"/>
            <a:ext cx="2396880" cy="1441440"/>
          </a:xfrm>
          <a:custGeom>
            <a:avLst/>
            <a:gdLst/>
            <a:ahLst/>
            <a:rect l="l" t="t" r="r" b="b"/>
            <a:pathLst>
              <a:path w="2396794" h="1440401">
                <a:moveTo>
                  <a:pt x="0" y="0"/>
                </a:moveTo>
                <a:lnTo>
                  <a:pt x="232049" y="0"/>
                </a:lnTo>
                <a:lnTo>
                  <a:pt x="232049" y="1208208"/>
                </a:lnTo>
                <a:lnTo>
                  <a:pt x="2396794" y="1208208"/>
                </a:lnTo>
                <a:lnTo>
                  <a:pt x="2396794" y="1440401"/>
                </a:lnTo>
                <a:lnTo>
                  <a:pt x="0" y="1440401"/>
                </a:lnTo>
                <a:lnTo>
                  <a:pt x="0" y="0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8796240" y="1743120"/>
            <a:ext cx="23241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Структурирана информация за всички АУ и режими, налична в ИИСДА. Основа на следващите стъпки на реформа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L-Shape 14" descr=""/>
          <p:cNvPicPr/>
          <p:nvPr/>
        </p:nvPicPr>
        <p:blipFill>
          <a:blip r:embed="rId3"/>
          <a:stretch/>
        </p:blipFill>
        <p:spPr>
          <a:xfrm>
            <a:off x="804960" y="4443480"/>
            <a:ext cx="2523960" cy="157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5"/>
          <p:cNvSpPr/>
          <p:nvPr/>
        </p:nvSpPr>
        <p:spPr>
          <a:xfrm>
            <a:off x="1095480" y="4630680"/>
            <a:ext cx="23428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Невъзможност за планиране и анали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1087560" y="1792440"/>
            <a:ext cx="235080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68760" bIns="68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Липсва пълна и коректна информация за административните услуги и режими, невъзможност за планиране и анали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3940200" y="1541520"/>
            <a:ext cx="4311720" cy="1049400"/>
          </a:xfrm>
          <a:prstGeom prst="rect">
            <a:avLst/>
          </a:prstGeom>
          <a:solidFill>
            <a:srgbClr val="002060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ълен одит на административните услуги и режим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017720" y="14842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Palatino Linotype"/>
              </a:rPr>
              <a:t>ПРЕД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8956800" y="1495440"/>
            <a:ext cx="224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Palatino Linotype"/>
              </a:rPr>
              <a:t>СЛЕ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2060"/>
                </a:solidFill>
                <a:latin typeface="Palatino Linotype"/>
              </a:rPr>
              <a:t>За какво ще послужат данните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1095-8801-4E08-9682-9EB9CAE2EEDB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5154480" y="160020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6022800" y="274644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6022800" y="431640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5154480" y="546408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098720" y="1189080"/>
            <a:ext cx="9958320" cy="3935520"/>
            <a:chOff x="1098720" y="1189080"/>
            <a:chExt cx="9958320" cy="3935520"/>
          </a:xfrm>
        </p:grpSpPr>
        <p:sp>
          <p:nvSpPr>
            <p:cNvPr id="172" name="Rectangle 12"/>
            <p:cNvSpPr/>
            <p:nvPr/>
          </p:nvSpPr>
          <p:spPr>
            <a:xfrm>
              <a:off x="1098720" y="1831680"/>
              <a:ext cx="4840920" cy="569520"/>
            </a:xfrm>
            <a:prstGeom prst="rect">
              <a:avLst/>
            </a:prstGeom>
            <a:solidFill>
              <a:srgbClr val="002060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Rectangle 15"/>
            <p:cNvSpPr/>
            <p:nvPr/>
          </p:nvSpPr>
          <p:spPr>
            <a:xfrm>
              <a:off x="1098720" y="2045520"/>
              <a:ext cx="355320" cy="355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1098720" y="1189080"/>
              <a:ext cx="4840920" cy="44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bg-BG" sz="2000" spc="-1" strike="noStrike">
                  <a:solidFill>
                    <a:srgbClr val="002060"/>
                  </a:solidFill>
                  <a:latin typeface="Palatino Linotype"/>
                </a:rPr>
                <a:t>ПРЕД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8"/>
            <p:cNvSpPr/>
            <p:nvPr/>
          </p:nvSpPr>
          <p:spPr>
            <a:xfrm>
              <a:off x="1098720" y="28746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1437480" y="2637720"/>
              <a:ext cx="4502160" cy="82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Palatino Linotype"/>
                </a:rPr>
                <a:t>Крайните потребители на над 60% от </a:t>
              </a:r>
              <a:r>
                <a:rPr b="1" lang="bg-BG" sz="1600" spc="-1" strike="noStrike">
                  <a:solidFill>
                    <a:srgbClr val="000000"/>
                  </a:solidFill>
                  <a:latin typeface="Palatino Linotype"/>
                </a:rPr>
                <a:t>услугите </a:t>
              </a:r>
              <a:r>
                <a:rPr b="0" lang="bg-BG" sz="1600" spc="-1" strike="noStrike">
                  <a:solidFill>
                    <a:srgbClr val="000000"/>
                  </a:solidFill>
                  <a:latin typeface="Palatino Linotype"/>
                </a:rPr>
                <a:t>са други администрации, а не гражданите и фирмит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1098720" y="370332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437480" y="3466800"/>
              <a:ext cx="4502160" cy="82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Palatino Linotype"/>
                </a:rPr>
                <a:t>Всяка година се губят десетки милиони човеко-часове в ръчно пренасяне на документи между администрациит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1098720" y="45324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1437480" y="429588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24"/>
            <p:cNvSpPr/>
            <p:nvPr/>
          </p:nvSpPr>
          <p:spPr>
            <a:xfrm>
              <a:off x="6181920" y="1831680"/>
              <a:ext cx="4840920" cy="569520"/>
            </a:xfrm>
            <a:prstGeom prst="rect">
              <a:avLst/>
            </a:prstGeom>
            <a:solidFill>
              <a:srgbClr val="002060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25"/>
            <p:cNvSpPr/>
            <p:nvPr/>
          </p:nvSpPr>
          <p:spPr>
            <a:xfrm>
              <a:off x="6181920" y="2045520"/>
              <a:ext cx="355320" cy="355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6"/>
            <p:cNvSpPr/>
            <p:nvPr/>
          </p:nvSpPr>
          <p:spPr>
            <a:xfrm>
              <a:off x="6181920" y="1189080"/>
              <a:ext cx="4840920" cy="44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bg-BG" sz="2000" spc="-1" strike="noStrike">
                  <a:solidFill>
                    <a:srgbClr val="002060"/>
                  </a:solidFill>
                  <a:latin typeface="Palatino Linotype"/>
                </a:rPr>
                <a:t>В РЕЗУЛТАТ НА ДАННИТЕ ОТ ИНВЕНТАРИЗАЦИЯТ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Rectangle 27"/>
            <p:cNvSpPr/>
            <p:nvPr/>
          </p:nvSpPr>
          <p:spPr>
            <a:xfrm>
              <a:off x="6181920" y="28746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8"/>
            <p:cNvSpPr/>
            <p:nvPr/>
          </p:nvSpPr>
          <p:spPr>
            <a:xfrm>
              <a:off x="6554880" y="263772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29"/>
            <p:cNvSpPr/>
            <p:nvPr/>
          </p:nvSpPr>
          <p:spPr>
            <a:xfrm>
              <a:off x="6181920" y="370332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30"/>
            <p:cNvSpPr/>
            <p:nvPr/>
          </p:nvSpPr>
          <p:spPr>
            <a:xfrm>
              <a:off x="6520680" y="346680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31"/>
            <p:cNvSpPr/>
            <p:nvPr/>
          </p:nvSpPr>
          <p:spPr>
            <a:xfrm>
              <a:off x="6181920" y="45324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32"/>
            <p:cNvSpPr/>
            <p:nvPr/>
          </p:nvSpPr>
          <p:spPr>
            <a:xfrm>
              <a:off x="6520680" y="429588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TextBox 4"/>
          <p:cNvSpPr/>
          <p:nvPr/>
        </p:nvSpPr>
        <p:spPr>
          <a:xfrm>
            <a:off x="1463760" y="1830240"/>
            <a:ext cx="43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Множество разпокъсани услуги и режими  създават ненужна бюрокра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6575400" y="1803240"/>
            <a:ext cx="43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Palatino Linotype"/>
              </a:rPr>
              <a:t>Намаляване/облекчаване на режимите и оптимизиране на услуг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1098720" y="5370480"/>
            <a:ext cx="3553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34"/>
          <p:cNvSpPr/>
          <p:nvPr/>
        </p:nvSpPr>
        <p:spPr>
          <a:xfrm>
            <a:off x="1436760" y="513396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Висока административна и регулаторна тежест за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6181560" y="5398920"/>
            <a:ext cx="355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Freeform 36"/>
          <p:cNvSpPr/>
          <p:nvPr/>
        </p:nvSpPr>
        <p:spPr>
          <a:xfrm>
            <a:off x="6554880" y="516240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Намаляване на броя и облекчаване на режимите, спазване на ЗОАРАКС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38"/>
          <p:cNvSpPr/>
          <p:nvPr/>
        </p:nvSpPr>
        <p:spPr>
          <a:xfrm>
            <a:off x="6548400" y="429588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Доставчиците на обществени услуги ще прилагат еднакво правилата за административно обслужв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Freeform 39"/>
          <p:cNvSpPr/>
          <p:nvPr/>
        </p:nvSpPr>
        <p:spPr>
          <a:xfrm>
            <a:off x="6548400" y="346716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Бизнесът и гражданите ще спестят това време  и ще улеснят контакта си с администр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Freeform 40"/>
          <p:cNvSpPr/>
          <p:nvPr/>
        </p:nvSpPr>
        <p:spPr>
          <a:xfrm>
            <a:off x="6543720" y="2637000"/>
            <a:ext cx="4502160" cy="83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До 60% от услугите стават вътрешно-администрати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2.01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3097080" y="6356520"/>
            <a:ext cx="581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 и министър на вътрешните рабо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43"/>
          <p:cNvSpPr/>
          <p:nvPr/>
        </p:nvSpPr>
        <p:spPr>
          <a:xfrm>
            <a:off x="1509840" y="427500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Доставчиците на обществени услуги прилагат различни практики при обслужване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2060"/>
                </a:solidFill>
                <a:latin typeface="Palatino Linotype"/>
              </a:rPr>
              <a:t>За какво ще послужат данните (2)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42BE-B33D-47B7-ABD1-5A3E6FE3EB36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5154480" y="160020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022800" y="274644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022800" y="431640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5154480" y="5464080"/>
            <a:ext cx="9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1098720" y="1189080"/>
            <a:ext cx="9958320" cy="3935520"/>
            <a:chOff x="1098720" y="1189080"/>
            <a:chExt cx="9958320" cy="3935520"/>
          </a:xfrm>
        </p:grpSpPr>
        <p:sp>
          <p:nvSpPr>
            <p:cNvPr id="209" name="Rectangle 12"/>
            <p:cNvSpPr/>
            <p:nvPr/>
          </p:nvSpPr>
          <p:spPr>
            <a:xfrm>
              <a:off x="1098720" y="1831680"/>
              <a:ext cx="4840920" cy="569520"/>
            </a:xfrm>
            <a:prstGeom prst="rect">
              <a:avLst/>
            </a:prstGeom>
            <a:solidFill>
              <a:srgbClr val="002060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>
              <a:off x="1098720" y="2045520"/>
              <a:ext cx="355320" cy="355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7"/>
            <p:cNvSpPr/>
            <p:nvPr/>
          </p:nvSpPr>
          <p:spPr>
            <a:xfrm>
              <a:off x="1098720" y="1189080"/>
              <a:ext cx="4840920" cy="44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bg-BG" sz="2000" spc="-1" strike="noStrike">
                  <a:solidFill>
                    <a:srgbClr val="002060"/>
                  </a:solidFill>
                  <a:latin typeface="Palatino Linotype"/>
                </a:rPr>
                <a:t>ПРЕД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18"/>
            <p:cNvSpPr/>
            <p:nvPr/>
          </p:nvSpPr>
          <p:spPr>
            <a:xfrm>
              <a:off x="1098720" y="28746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9"/>
            <p:cNvSpPr/>
            <p:nvPr/>
          </p:nvSpPr>
          <p:spPr>
            <a:xfrm>
              <a:off x="1437480" y="2637720"/>
              <a:ext cx="4502160" cy="82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algn="just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Palatino Linotype"/>
                </a:rPr>
                <a:t>Изисква се твърде много информация и документи, които са налични в информационните масиви на институциит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Rectangle 20"/>
            <p:cNvSpPr/>
            <p:nvPr/>
          </p:nvSpPr>
          <p:spPr>
            <a:xfrm>
              <a:off x="1098720" y="370332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21"/>
            <p:cNvSpPr/>
            <p:nvPr/>
          </p:nvSpPr>
          <p:spPr>
            <a:xfrm>
              <a:off x="1437480" y="3466800"/>
              <a:ext cx="4502160" cy="82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0" lang="bg-BG" sz="1600" spc="-1" strike="noStrike">
                  <a:solidFill>
                    <a:srgbClr val="000000"/>
                  </a:solidFill>
                  <a:latin typeface="Palatino Linotype"/>
                </a:rPr>
                <a:t>Всяка година се губят десетки милиони човеко-часове в ръчно пренасяне на документи между администрациите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1098720" y="45324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>
              <a:off x="1437480" y="429588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6181920" y="1831680"/>
              <a:ext cx="4840920" cy="569520"/>
            </a:xfrm>
            <a:prstGeom prst="rect">
              <a:avLst/>
            </a:prstGeom>
            <a:solidFill>
              <a:srgbClr val="002060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6181920" y="2045520"/>
              <a:ext cx="355320" cy="35532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6"/>
            <p:cNvSpPr/>
            <p:nvPr/>
          </p:nvSpPr>
          <p:spPr>
            <a:xfrm>
              <a:off x="6181920" y="1189080"/>
              <a:ext cx="4840920" cy="44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lang="bg-BG" sz="2000" spc="-1" strike="noStrike">
                  <a:solidFill>
                    <a:srgbClr val="002060"/>
                  </a:solidFill>
                  <a:latin typeface="Palatino Linotype"/>
                </a:rPr>
                <a:t>В РЕЗУЛТАТ НА ДАННИТЕ ОТ ИНВЕНТАРИЗАЦИЯТА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6181920" y="28746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6554880" y="263772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6181920" y="370332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6520680" y="346680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181920" y="4532400"/>
              <a:ext cx="355320" cy="355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6520680" y="4295880"/>
              <a:ext cx="4502160" cy="828720"/>
            </a:xfrm>
            <a:custGeom>
              <a:avLst/>
              <a:gdLst/>
              <a:ahLst/>
              <a:rect l="l" t="t" r="r" b="b"/>
              <a:pathLst>
                <a:path w="4502548" h="829048">
                  <a:moveTo>
                    <a:pt x="0" y="0"/>
                  </a:moveTo>
                  <a:lnTo>
                    <a:pt x="4502548" y="0"/>
                  </a:lnTo>
                  <a:lnTo>
                    <a:pt x="4502548" y="829048"/>
                  </a:lnTo>
                  <a:lnTo>
                    <a:pt x="0" y="8290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4"/>
          <p:cNvSpPr/>
          <p:nvPr/>
        </p:nvSpPr>
        <p:spPr>
          <a:xfrm>
            <a:off x="1463760" y="1830240"/>
            <a:ext cx="4330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Palatino Linotype"/>
              </a:rPr>
              <a:t>С</a:t>
            </a:r>
            <a:r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лаб напредък в КАО и липса на внедрени услуги на принципа „епизоди от живота“ и „бизнес събития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6575400" y="1803240"/>
            <a:ext cx="433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Palatino Linotype"/>
              </a:rPr>
              <a:t>Намаляване/облекчаване на режимите и оптимизиране на услуг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1098720" y="5370480"/>
            <a:ext cx="35532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34"/>
          <p:cNvSpPr/>
          <p:nvPr/>
        </p:nvSpPr>
        <p:spPr>
          <a:xfrm>
            <a:off x="1436760" y="513396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Множество квазирежими затрудняват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6181560" y="5398920"/>
            <a:ext cx="3556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reeform 36"/>
          <p:cNvSpPr/>
          <p:nvPr/>
        </p:nvSpPr>
        <p:spPr>
          <a:xfrm>
            <a:off x="6554880" y="516240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Елиминиране на квазирежимите и пълно спазване на ЗОАРАКС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38"/>
          <p:cNvSpPr/>
          <p:nvPr/>
        </p:nvSpPr>
        <p:spPr>
          <a:xfrm>
            <a:off x="6548400" y="429588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Доставчиците на обществени услуги ще прилагат еднакво правилата за административно обслужв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reeform 39"/>
          <p:cNvSpPr/>
          <p:nvPr/>
        </p:nvSpPr>
        <p:spPr>
          <a:xfrm>
            <a:off x="6548400" y="346716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Бизнесът и гражданите ще спестят това време  и ще улеснят контакта си с администрациит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reeform 40"/>
          <p:cNvSpPr/>
          <p:nvPr/>
        </p:nvSpPr>
        <p:spPr>
          <a:xfrm>
            <a:off x="6543720" y="2637000"/>
            <a:ext cx="4502160" cy="830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До 60% от услугите стават вътрешно-административ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2.01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3097080" y="6356520"/>
            <a:ext cx="581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 и министър на вътрешните рабо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reeform 43"/>
          <p:cNvSpPr/>
          <p:nvPr/>
        </p:nvSpPr>
        <p:spPr>
          <a:xfrm>
            <a:off x="1509840" y="4275000"/>
            <a:ext cx="4502160" cy="828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760" rIns="113760" tIns="113760" bIns="113760" anchor="ctr">
            <a:noAutofit/>
          </a:bodyPr>
          <a:p>
            <a:pPr>
              <a:lnSpc>
                <a:spcPct val="90000"/>
              </a:lnSpc>
              <a:spcAft>
                <a:spcPts val="700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Palatino Linotype"/>
              </a:rPr>
              <a:t>Доставчиците на обществени услуги прилагат различни практики при обслужванет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2060"/>
                </a:solidFill>
                <a:latin typeface="Palatino Linotype"/>
              </a:rPr>
              <a:t>Приоритетни проекти – резулта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81D9-73D8-49DF-AEB6-F72DF0F64C45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Diagram 8" descr=""/>
          <p:cNvPicPr/>
          <p:nvPr/>
        </p:nvPicPr>
        <p:blipFill>
          <a:blip r:embed="rId1"/>
          <a:stretch/>
        </p:blipFill>
        <p:spPr>
          <a:xfrm>
            <a:off x="1054080" y="1341360"/>
            <a:ext cx="10199880" cy="5029200"/>
          </a:xfrm>
          <a:prstGeom prst="rect">
            <a:avLst/>
          </a:prstGeom>
          <a:ln w="0">
            <a:noFill/>
          </a:ln>
        </p:spPr>
      </p:pic>
      <p:sp>
        <p:nvSpPr>
          <p:cNvPr id="242" name="Right Arrow 9"/>
          <p:cNvSpPr/>
          <p:nvPr/>
        </p:nvSpPr>
        <p:spPr>
          <a:xfrm>
            <a:off x="1058760" y="5499000"/>
            <a:ext cx="10028520" cy="576360"/>
          </a:xfrm>
          <a:prstGeom prst="rightArrow">
            <a:avLst>
              <a:gd name="adj1" fmla="val 50000"/>
              <a:gd name="adj2" fmla="val 49863"/>
            </a:avLst>
          </a:prstGeom>
          <a:solidFill>
            <a:srgbClr val="00206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2"/>
          <p:cNvSpPr/>
          <p:nvPr/>
        </p:nvSpPr>
        <p:spPr>
          <a:xfrm>
            <a:off x="2516040" y="5618160"/>
            <a:ext cx="72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ffffff"/>
                </a:solidFill>
                <a:latin typeface="Palatino Linotype"/>
              </a:rPr>
              <a:t>Резултати от реализация на приоритетните проек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12.01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3097080" y="6356520"/>
            <a:ext cx="581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 и министър на вътрешните рабо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13840"/>
            <a:ext cx="1097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2060"/>
                </a:solidFill>
                <a:latin typeface="Palatino Linotype"/>
              </a:rPr>
              <a:t>Трансформираме административното обслужване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491-4AD5-4085-8BA7-1F7AAA76FE37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06CF-CC3C-46E5-8FA6-DD56D974A3BB}" type="datetime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ooter Placeholder 5"/>
          <p:cNvSpPr/>
          <p:nvPr/>
        </p:nvSpPr>
        <p:spPr>
          <a:xfrm>
            <a:off x="3749760" y="6356520"/>
            <a:ext cx="468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Palatino Linotype"/>
              </a:rPr>
              <a:t>Политически кабинет на Заместник министър-председателя по коалиционна политика и държавна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Group 4114"/>
          <p:cNvGrpSpPr/>
          <p:nvPr/>
        </p:nvGrpSpPr>
        <p:grpSpPr>
          <a:xfrm>
            <a:off x="541440" y="1308240"/>
            <a:ext cx="10436040" cy="4713120"/>
            <a:chOff x="541440" y="1308240"/>
            <a:chExt cx="10436040" cy="4713120"/>
          </a:xfrm>
        </p:grpSpPr>
        <p:grpSp>
          <p:nvGrpSpPr>
            <p:cNvPr id="251" name="Freeform 4115"/>
            <p:cNvGrpSpPr/>
            <p:nvPr/>
          </p:nvGrpSpPr>
          <p:grpSpPr>
            <a:xfrm>
              <a:off x="2235960" y="4235040"/>
              <a:ext cx="1962720" cy="1762200"/>
              <a:chOff x="2235960" y="4235040"/>
              <a:chExt cx="1962720" cy="1762200"/>
            </a:xfrm>
          </p:grpSpPr>
          <p:pic>
            <p:nvPicPr>
              <p:cNvPr id="252" name="Freeform 41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238480" y="4235040"/>
                <a:ext cx="1957320" cy="175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2235960" y="4236120"/>
                <a:ext cx="1962720" cy="176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4120" rIns="294120" tIns="275400" bIns="275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bg-BG" sz="1800" spc="-1" strike="noStrike">
                    <a:solidFill>
                      <a:srgbClr val="ffffff"/>
                    </a:solidFill>
                    <a:latin typeface="Palatino Linotype"/>
                  </a:rPr>
                  <a:t>Центрове за услуг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4" name="Hexagon 4117"/>
            <p:cNvGrpSpPr/>
            <p:nvPr/>
          </p:nvGrpSpPr>
          <p:grpSpPr>
            <a:xfrm>
              <a:off x="541440" y="3259440"/>
              <a:ext cx="1968840" cy="1767960"/>
              <a:chOff x="541440" y="3259440"/>
              <a:chExt cx="1968840" cy="1767960"/>
            </a:xfrm>
          </p:grpSpPr>
          <p:pic>
            <p:nvPicPr>
              <p:cNvPr id="255" name="Hexagon 4117" descr=""/>
              <p:cNvPicPr/>
              <p:nvPr/>
            </p:nvPicPr>
            <p:blipFill>
              <a:blip r:embed="rId2"/>
              <a:stretch/>
            </p:blipFill>
            <p:spPr>
              <a:xfrm>
                <a:off x="541440" y="3259440"/>
                <a:ext cx="1968840" cy="176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850320" y="3539880"/>
                <a:ext cx="1346400" cy="12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7" name="Freeform 4119"/>
            <p:cNvGrpSpPr/>
            <p:nvPr/>
          </p:nvGrpSpPr>
          <p:grpSpPr>
            <a:xfrm>
              <a:off x="3924720" y="3253320"/>
              <a:ext cx="1968840" cy="1767960"/>
              <a:chOff x="3924720" y="3253320"/>
              <a:chExt cx="1968840" cy="1767960"/>
            </a:xfrm>
          </p:grpSpPr>
          <p:pic>
            <p:nvPicPr>
              <p:cNvPr id="258" name="Freeform 411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4720" y="3253320"/>
                <a:ext cx="1967040" cy="176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3926880" y="3256200"/>
                <a:ext cx="1966680" cy="176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4120" rIns="294120" tIns="275400" bIns="275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bg-BG" sz="1800" spc="-1" strike="noStrike">
                    <a:solidFill>
                      <a:srgbClr val="ffffff"/>
                    </a:solidFill>
                    <a:latin typeface="Palatino Linotype"/>
                  </a:rPr>
                  <a:t>„</a:t>
                </a:r>
                <a:r>
                  <a:rPr b="0" lang="bg-BG" sz="1800" spc="-1" strike="noStrike">
                    <a:solidFill>
                      <a:srgbClr val="ffffff"/>
                    </a:solidFill>
                    <a:latin typeface="Palatino Linotype"/>
                  </a:rPr>
                  <a:t>Епизоди от живота“ и „Бизнес събития“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0" name="Hexagon 4121"/>
            <p:cNvGrpSpPr/>
            <p:nvPr/>
          </p:nvGrpSpPr>
          <p:grpSpPr>
            <a:xfrm>
              <a:off x="5619240" y="4235040"/>
              <a:ext cx="1968840" cy="1762200"/>
              <a:chOff x="5619240" y="4235040"/>
              <a:chExt cx="1968840" cy="1762200"/>
            </a:xfrm>
          </p:grpSpPr>
          <p:pic>
            <p:nvPicPr>
              <p:cNvPr id="261" name="Hexagon 4121" descr=""/>
              <p:cNvPicPr/>
              <p:nvPr/>
            </p:nvPicPr>
            <p:blipFill>
              <a:blip r:embed="rId4"/>
              <a:stretch/>
            </p:blipFill>
            <p:spPr>
              <a:xfrm>
                <a:off x="5619240" y="4235040"/>
                <a:ext cx="1968840" cy="17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>
                <a:off x="5930640" y="4511520"/>
                <a:ext cx="1346400" cy="12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3" name="Freeform 4123"/>
            <p:cNvGrpSpPr/>
            <p:nvPr/>
          </p:nvGrpSpPr>
          <p:grpSpPr>
            <a:xfrm>
              <a:off x="2235960" y="2289960"/>
              <a:ext cx="1962720" cy="1762200"/>
              <a:chOff x="2235960" y="2289960"/>
              <a:chExt cx="1962720" cy="1762200"/>
            </a:xfrm>
          </p:grpSpPr>
          <p:pic>
            <p:nvPicPr>
              <p:cNvPr id="264" name="Freeform 4123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8480" y="2292840"/>
                <a:ext cx="1957320" cy="175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>
                <a:off x="2235960" y="2289960"/>
                <a:ext cx="1962720" cy="176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4120" rIns="294120" tIns="275400" bIns="275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bg-BG" sz="1800" spc="-1" strike="noStrike">
                    <a:solidFill>
                      <a:srgbClr val="000000"/>
                    </a:solidFill>
                    <a:latin typeface="Palatino Linotype"/>
                  </a:rPr>
                  <a:t>Комплексно обслужване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6" name="Hexagon 4125"/>
            <p:cNvGrpSpPr/>
            <p:nvPr/>
          </p:nvGrpSpPr>
          <p:grpSpPr>
            <a:xfrm>
              <a:off x="3924720" y="1308240"/>
              <a:ext cx="1968840" cy="1762200"/>
              <a:chOff x="3924720" y="1308240"/>
              <a:chExt cx="1968840" cy="1762200"/>
            </a:xfrm>
          </p:grpSpPr>
          <p:pic>
            <p:nvPicPr>
              <p:cNvPr id="267" name="Hexagon 4125" descr=""/>
              <p:cNvPicPr/>
              <p:nvPr/>
            </p:nvPicPr>
            <p:blipFill>
              <a:blip r:embed="rId6"/>
              <a:stretch/>
            </p:blipFill>
            <p:spPr>
              <a:xfrm>
                <a:off x="3924720" y="1308240"/>
                <a:ext cx="1968840" cy="17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4237920" y="1584720"/>
                <a:ext cx="1346400" cy="12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9" name="Freeform 4127"/>
            <p:cNvGrpSpPr/>
            <p:nvPr/>
          </p:nvGrpSpPr>
          <p:grpSpPr>
            <a:xfrm>
              <a:off x="5619240" y="2283840"/>
              <a:ext cx="1968840" cy="1762200"/>
              <a:chOff x="5619240" y="2283840"/>
              <a:chExt cx="1968840" cy="1762200"/>
            </a:xfrm>
          </p:grpSpPr>
          <p:pic>
            <p:nvPicPr>
              <p:cNvPr id="270" name="Freeform 4127" descr=""/>
              <p:cNvPicPr/>
              <p:nvPr/>
            </p:nvPicPr>
            <p:blipFill>
              <a:blip r:embed="rId7"/>
              <a:stretch/>
            </p:blipFill>
            <p:spPr>
              <a:xfrm>
                <a:off x="5619240" y="2284560"/>
                <a:ext cx="1968840" cy="176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5619600" y="2283840"/>
                <a:ext cx="1968480" cy="17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4120" rIns="294120" tIns="275400" bIns="275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bg-BG" sz="1800" spc="-1" strike="noStrike">
                    <a:solidFill>
                      <a:srgbClr val="000000"/>
                    </a:solidFill>
                    <a:latin typeface="Palatino Linotype"/>
                  </a:rPr>
                  <a:t>Различни канали за достъп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2" name="Hexagon 4129"/>
            <p:cNvGrpSpPr/>
            <p:nvPr/>
          </p:nvGrpSpPr>
          <p:grpSpPr>
            <a:xfrm>
              <a:off x="7314120" y="3271680"/>
              <a:ext cx="1968840" cy="1767960"/>
              <a:chOff x="7314120" y="3271680"/>
              <a:chExt cx="1968840" cy="1767960"/>
            </a:xfrm>
          </p:grpSpPr>
          <p:pic>
            <p:nvPicPr>
              <p:cNvPr id="273" name="Hexagon 4129" descr=""/>
              <p:cNvPicPr/>
              <p:nvPr/>
            </p:nvPicPr>
            <p:blipFill>
              <a:blip r:embed="rId8"/>
              <a:stretch/>
            </p:blipFill>
            <p:spPr>
              <a:xfrm>
                <a:off x="7314120" y="3271680"/>
                <a:ext cx="1968840" cy="176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7624800" y="3553200"/>
                <a:ext cx="1346400" cy="12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5" name="Freeform 4131"/>
            <p:cNvGrpSpPr/>
            <p:nvPr/>
          </p:nvGrpSpPr>
          <p:grpSpPr>
            <a:xfrm>
              <a:off x="7314120" y="1326240"/>
              <a:ext cx="1968840" cy="1762200"/>
              <a:chOff x="7314120" y="1326240"/>
              <a:chExt cx="1968840" cy="1762200"/>
            </a:xfrm>
          </p:grpSpPr>
          <p:pic>
            <p:nvPicPr>
              <p:cNvPr id="276" name="Freeform 4131" descr=""/>
              <p:cNvPicPr/>
              <p:nvPr/>
            </p:nvPicPr>
            <p:blipFill>
              <a:blip r:embed="rId9"/>
              <a:stretch/>
            </p:blipFill>
            <p:spPr>
              <a:xfrm>
                <a:off x="7314120" y="1327680"/>
                <a:ext cx="1968840" cy="176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7314120" y="1326240"/>
                <a:ext cx="1968120" cy="17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4120" rIns="294120" tIns="275400" bIns="275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bg-BG" sz="1800" spc="-1" strike="noStrike">
                    <a:solidFill>
                      <a:srgbClr val="ffffff"/>
                    </a:solidFill>
                    <a:latin typeface="Palatino Linotype"/>
                  </a:rPr>
                  <a:t>Еднакви услуги във всяка общин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8" name="Hexagon 4133"/>
            <p:cNvGrpSpPr/>
            <p:nvPr/>
          </p:nvGrpSpPr>
          <p:grpSpPr>
            <a:xfrm>
              <a:off x="9008640" y="2307960"/>
              <a:ext cx="1968840" cy="1762200"/>
              <a:chOff x="9008640" y="2307960"/>
              <a:chExt cx="1968840" cy="1762200"/>
            </a:xfrm>
          </p:grpSpPr>
          <p:pic>
            <p:nvPicPr>
              <p:cNvPr id="279" name="Hexagon 41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008640" y="2307960"/>
                <a:ext cx="1968840" cy="17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9318600" y="2587320"/>
                <a:ext cx="1346400" cy="12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1" name="Freeform 4135"/>
            <p:cNvGrpSpPr/>
            <p:nvPr/>
          </p:nvGrpSpPr>
          <p:grpSpPr>
            <a:xfrm>
              <a:off x="9008640" y="4253400"/>
              <a:ext cx="1968840" cy="1767960"/>
              <a:chOff x="9008640" y="4253400"/>
              <a:chExt cx="1968840" cy="1767960"/>
            </a:xfrm>
          </p:grpSpPr>
          <p:pic>
            <p:nvPicPr>
              <p:cNvPr id="282" name="Freeform 41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9009360" y="4253400"/>
                <a:ext cx="1968120" cy="176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9008640" y="4255560"/>
                <a:ext cx="1967400" cy="176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4120" rIns="294120" tIns="275400" bIns="2754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88"/>
                  </a:spcAft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0" lang="bg-BG" sz="1800" spc="-1" strike="noStrike">
                    <a:solidFill>
                      <a:srgbClr val="000000"/>
                    </a:solidFill>
                    <a:latin typeface="Palatino Linotype"/>
                  </a:rPr>
                  <a:t>Регистрова реформ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838080" y="1278000"/>
            <a:ext cx="10515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000000"/>
                </a:solidFill>
                <a:latin typeface="Palatino Linotype"/>
                <a:ea typeface="DejaVu Sans"/>
              </a:rPr>
              <a:t>БЛАГОДАРЯ ЗА ВНИМАНИЕТ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28.10.20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C201-513B-42E2-BF0B-A100865E5EAA}" type="slidenum">
              <a:rPr b="0" lang="bg-BG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5T12:27:51Z</dcterms:created>
  <dc:creator>Антон Герунов</dc:creator>
  <dc:description/>
  <dc:language>en-US</dc:language>
  <cp:lastModifiedBy>Jan Iliev</cp:lastModifiedBy>
  <cp:lastPrinted>2015-01-19T06:57:19Z</cp:lastPrinted>
  <dcterms:modified xsi:type="dcterms:W3CDTF">2016-11-09T09:17:39Z</dcterms:modified>
  <cp:revision>535</cp:revision>
  <dc:subject/>
  <dc:title>PowerPoint Presentation</dc:title>
</cp:coreProperties>
</file>